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000E-8500-4101-B645-EE5657972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6023-D743-4111-A4BF-E94C87C5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15C1A6-1259-40DB-A05A-0E611ECB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1B6FBF-E806-4DE7-8B49-DDD25B0A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E0B1B6-7F75-46FC-8B1D-960913F6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01B5AE-31F1-4A36-A22B-E3639CFD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552122-275C-460C-9F71-A82E4087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E172A1-F3E9-4F91-A4AE-3E1F5459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559CB2-A54D-4310-8978-08E1061B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1137C6-6CC0-4AA1-A26A-C119016C2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41709D-649F-4D15-A243-0B64913D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4C12-7B2C-4FEC-928D-DD5A6E22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CBB2-A373-4D3C-A742-158D65174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45951-E7BB-4A26-8091-68E326208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8F462-D48D-43C5-B547-59539510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102AB-7E37-45FF-A92D-E1215893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4372D-43FC-46DF-9D3F-71A7C2ED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C217C-BD96-4D30-B216-AC77DE58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D4878-2520-4048-A820-5766A47A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16A3D-2CDB-4C9D-BAB3-712E32E9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BD1D-B509-416E-B0CF-01DE177F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3EB74-C538-4C99-B9FD-8684DB64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F07A6-40D0-4376-AFD7-D5BCEF61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9CD27-D30A-4252-BB04-56B4C1C2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43F91-ACE5-46A3-8AF2-0BF128D7F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B055F-642F-4C75-B75A-1804F4891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70827-B22B-4F93-9756-5B2EFA33E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F6598-AEC0-445E-BF82-51ADB3A4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27020-C7FB-4F61-BBC0-EE777766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E318A-1610-4E7A-97FC-4826F10B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7CF90-7393-4DAA-BCB8-F167C9FE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DE17-1210-4A9D-BA48-D5E10BB3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3DE15-D80A-4BD9-9CA4-2C6ED97B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42BAC-B22D-40C5-AFC9-2E29C876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C4664-F5D8-437D-A9B3-200F8AA9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00BD0-0885-4998-B8AE-1D50D082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9D327-0083-4D9B-A8CA-DEAC0917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B26AA-255B-488E-A5A2-BFE9E6051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A1BF0-7676-4C05-8E38-F6B15EC1A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5FB537-124E-4C37-9A9B-AFD604FCE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2BDBC2-871E-40D3-B698-5772F702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765C35-311A-42A2-BAFF-DBEAB7A9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56D1-665F-4FE5-A314-BAD19CDD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03BC31-6F15-4287-8F3A-C632D725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0F5B06-3DC3-4787-86D0-92F10AD8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7FB0D4-C0DF-47F2-9093-9A7891BA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49D944-786F-4A94-A075-10C0AEC7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5E0EAC-CD86-4A80-931D-ACD22124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CEDFBD-5F08-42C3-B48C-4F7EFFDC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E72CCE-DE19-4CCF-90BD-826B33D7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77C165-B6A9-499D-B823-0A422CFC5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A19A8E-047C-436B-8192-CD4A4FEF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8B83E-CB78-431C-A38F-33C8F25AC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46FC-BC9C-4ED0-8366-99FB09AF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97BAD-0C62-4B68-895B-721A6E18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587B1-8EF6-4A51-AA6F-919DC7AA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B999A-5A40-4067-96CB-F32C6238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495AE-D295-4DE5-9D89-BB3ADF32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ED01A-D655-405A-AC0C-2A7B98C8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8487E-2870-455F-994B-41C8C41F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8AA56-6EC7-4729-AB99-38D8C687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0E1DF-E677-4A51-9799-2BC26D75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0041D-C639-4FCE-94B5-806EBFB7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21107-5A35-42E5-937B-698B8F579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3C4F-F9C5-4A28-9578-1652819D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4AAD9-B814-4592-86B6-F2443EF18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5AA89-314B-45D1-9E8C-EC9CFC64A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16545-AF6F-43C6-9A92-2E74625C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57EBB-6738-4CC8-A568-2F6BEE44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2FDB0-B118-4E02-9C88-D6458030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0EFAA-E679-4AEE-B359-2C6C9D46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4132F-C049-4C54-8DE3-5879ABC9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2E204-DD8F-4F58-9469-8C577D64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17E15-7119-45C1-A2E6-26D758A9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67BB9-27C7-4849-91FD-C7B7714F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A9C7-8957-4C62-BD84-7718A952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1B112-BDD3-4730-AF07-F7E7D8F8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0F056-4DC2-4202-A58F-0F79C9AD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72482-F272-4031-8319-C18E18531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5ECD5-D7E5-4891-AB97-59A942375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707FB-6F8F-4EF9-AE6E-0FAE198D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41AEF-5094-4FC6-8C9E-76CCE345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DAD69-5BF6-44BB-8940-AF42B829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2ECC0-1A7F-4548-BC41-6BBE2112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F5CB0-3C11-405F-B218-39183B0A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C5A5E-59AD-4B3C-B2E1-3D5E5E26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66DC-F444-46D0-A0E1-39083495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A3755-5624-462C-AF9E-E57B2EB4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83A40-2B8A-4097-BC44-722C4864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02D62-FA18-4E5B-98DD-325F6C40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82548-CAAF-4CE7-AD07-1C2ECD476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98A9A-3815-4F88-BDFA-8AC590361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0B8256-8F37-4EDD-8B1E-E07AC1324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8FF65F-C801-44D6-83D8-391E1011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5BB25A-C7C6-4F27-A6C6-FF086387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C17629-5467-41C6-B482-16613581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975C7A-8CAF-4D0D-9CF4-21BFC318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1A9C-888C-4C82-A3DB-3F3DD134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A048CF-D897-4292-8B62-DFA48908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8FB817-2DBF-4C84-8B6E-B2E0DECD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CF757C-81A9-4BCC-A895-4C432146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50A2E4-C986-471A-8B09-34078887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7FE043-F63E-473F-AA31-F2C0D7E0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A01CD0-B95D-4DEA-A4C6-EEA599A58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2879B5-089F-41DD-A182-CAD014368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D2546B-B9FC-4004-9514-70C38022E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34F9E7-B278-4E98-8E97-AFF877DD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9BBF67-FB3A-4131-9A45-F2DD8B51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209F-A756-4FFC-B928-D351E3C624FF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8" name="Прямоугольник с двумя скругленными противолежащими углами 7" descr=""/>
            <p:cNvPicPr/>
            <p:nvPr/>
          </p:nvPicPr>
          <p:blipFill>
            <a:blip r:embed="rId4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5C38-EAE8-4F9B-9A8E-7A0201794498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9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22AD-8BAC-4108-81F4-9B596053E23C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04EC-BB2E-4646-BACA-87A7E55397DA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8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275A-4A1C-4C54-B09D-F32B5EB84869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6684-7459-4C66-854C-B4DCE863547D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7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973C-7EA5-4C32-96D2-022026E810B0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1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0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2DAA-4B13-4020-866F-DD511DD2FE46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6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E2A2-8FBD-4578-8BA8-777CA87E9BA5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017960" y="1316160"/>
            <a:ext cx="4218120" cy="32004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"/>
          <p:cNvPicPr/>
          <p:nvPr/>
        </p:nvPicPr>
        <p:blipFill>
          <a:blip r:embed="rId2"/>
          <a:srcRect l="22719" t="12251" r="25036" b="14260"/>
          <a:stretch/>
        </p:blipFill>
        <p:spPr>
          <a:xfrm>
            <a:off x="857160" y="1000080"/>
            <a:ext cx="3071880" cy="435780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3"/>
          <p:cNvSpPr/>
          <p:nvPr/>
        </p:nvSpPr>
        <p:spPr>
          <a:xfrm>
            <a:off x="71280" y="5715000"/>
            <a:ext cx="885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мятный 1812 год. Он связан с нашествием Наполеона. Несколько блестящих побед сделали его одним из самых известных людей Франции. Наполеон стремился к всемирному господству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070840" cy="5715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3"/>
          <p:cNvSpPr/>
          <p:nvPr/>
        </p:nvSpPr>
        <p:spPr>
          <a:xfrm>
            <a:off x="0" y="591300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числите страны, подвластные Наполеону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ие страны не покорились Наполеону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Что оберегало Англию от сильной французской арми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-60480" y="244440"/>
            <a:ext cx="9990360" cy="487044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2"/>
          <p:cNvSpPr/>
          <p:nvPr/>
        </p:nvSpPr>
        <p:spPr>
          <a:xfrm>
            <a:off x="221040" y="6357960"/>
            <a:ext cx="376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означает название темы урок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281160" y="4925880"/>
            <a:ext cx="8484840" cy="11574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"/>
          <p:cNvPicPr/>
          <p:nvPr/>
        </p:nvPicPr>
        <p:blipFill>
          <a:blip r:embed="rId2"/>
          <a:stretch/>
        </p:blipFill>
        <p:spPr>
          <a:xfrm>
            <a:off x="2214720" y="285840"/>
            <a:ext cx="3927240" cy="507204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4"/>
          <p:cNvSpPr/>
          <p:nvPr/>
        </p:nvSpPr>
        <p:spPr>
          <a:xfrm>
            <a:off x="142920" y="602856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в армии, и в народе всё чаще, всё громче говорили о полководце, который поведёт русские войска к победе, к спасению 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3" descr="C:\Documents and Settings\Admin\Рабочий стол\200px-Kutuzovborodino.jpg"/>
          <p:cNvPicPr/>
          <p:nvPr/>
        </p:nvPicPr>
        <p:blipFill>
          <a:blip r:embed="rId1"/>
          <a:stretch/>
        </p:blipFill>
        <p:spPr>
          <a:xfrm>
            <a:off x="285840" y="285840"/>
            <a:ext cx="4795920" cy="3500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C:\Documents and Settings\Admin\Рабочий стол\200px-Vereshagin.Napoleon_near_Borodino.jpg"/>
          <p:cNvPicPr/>
          <p:nvPr/>
        </p:nvPicPr>
        <p:blipFill>
          <a:blip r:embed="rId2"/>
          <a:srcRect l="7795" t="0" r="0" b="0"/>
          <a:stretch/>
        </p:blipFill>
        <p:spPr>
          <a:xfrm>
            <a:off x="4000680" y="3143160"/>
            <a:ext cx="4827240" cy="342900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4"/>
          <p:cNvSpPr/>
          <p:nvPr/>
        </p:nvSpPr>
        <p:spPr>
          <a:xfrm>
            <a:off x="4714920" y="5716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М. И. Кутуз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на командном пункт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в ден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Бородинского сраж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5"/>
          <p:cNvSpPr/>
          <p:nvPr/>
        </p:nvSpPr>
        <p:spPr>
          <a:xfrm>
            <a:off x="571680" y="4357800"/>
            <a:ext cx="30715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Наполе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осматривает позиции предстоящего бо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3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00160" y="187200"/>
            <a:ext cx="8756640" cy="3356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357120" y="3714840"/>
            <a:ext cx="4200480" cy="2786040"/>
          </a:xfrm>
          <a:prstGeom prst="rect">
            <a:avLst/>
          </a:prstGeom>
          <a:ln w="0">
            <a:noFill/>
          </a:ln>
        </p:spPr>
      </p:pic>
      <p:sp>
        <p:nvSpPr>
          <p:cNvPr id="422" name="TextBox 5"/>
          <p:cNvSpPr/>
          <p:nvPr/>
        </p:nvSpPr>
        <p:spPr>
          <a:xfrm>
            <a:off x="4714920" y="3500280"/>
            <a:ext cx="3429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Бородинское сра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было самым кровопролитным за всю историю вой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4643280" y="580500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происходило над полем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выглядел бой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2352600" y="480960"/>
            <a:ext cx="4413240" cy="13114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"/>
          <p:cNvPicPr/>
          <p:nvPr/>
        </p:nvPicPr>
        <p:blipFill>
          <a:blip r:embed="rId2"/>
          <a:stretch/>
        </p:blipFill>
        <p:spPr>
          <a:xfrm>
            <a:off x="5643720" y="4357800"/>
            <a:ext cx="3174840" cy="22604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" descr=""/>
          <p:cNvPicPr/>
          <p:nvPr/>
        </p:nvPicPr>
        <p:blipFill>
          <a:blip r:embed="rId3"/>
          <a:srcRect l="17873" t="12303" r="17873" b="16938"/>
          <a:stretch/>
        </p:blipFill>
        <p:spPr>
          <a:xfrm>
            <a:off x="173160" y="173160"/>
            <a:ext cx="1898640" cy="2427120"/>
          </a:xfrm>
          <a:prstGeom prst="rect">
            <a:avLst/>
          </a:prstGeom>
          <a:ln w="0">
            <a:noFill/>
          </a:ln>
        </p:spPr>
      </p:pic>
      <p:sp>
        <p:nvSpPr>
          <p:cNvPr id="427" name="Прямоугольник 4"/>
          <p:cNvSpPr/>
          <p:nvPr/>
        </p:nvSpPr>
        <p:spPr>
          <a:xfrm>
            <a:off x="2000160" y="1714680"/>
            <a:ext cx="56437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кажи-ка, дядя, ведь не дар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сква, спаленная пожар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анцузу отдан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дь были ж схватки боевы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, говорят, еще каки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аром помнит вся Росс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 день Бородин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072120" y="285840"/>
            <a:ext cx="2772000" cy="30844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"/>
          <p:cNvPicPr/>
          <p:nvPr/>
        </p:nvPicPr>
        <p:blipFill>
          <a:blip r:embed="rId2"/>
          <a:stretch/>
        </p:blipFill>
        <p:spPr>
          <a:xfrm>
            <a:off x="3071880" y="2643120"/>
            <a:ext cx="2631960" cy="29289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285840" y="285840"/>
            <a:ext cx="2695320" cy="300024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7"/>
          <p:cNvSpPr/>
          <p:nvPr/>
        </p:nvSpPr>
        <p:spPr>
          <a:xfrm>
            <a:off x="214200" y="3500280"/>
            <a:ext cx="2643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Отряд крестьян, отлично знающих все тропинки в лесу, выслеживает отступающих француз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Прямоугольник 9"/>
          <p:cNvSpPr/>
          <p:nvPr/>
        </p:nvSpPr>
        <p:spPr>
          <a:xfrm>
            <a:off x="2357280" y="5572080"/>
            <a:ext cx="50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Д. В. Давыдов — партизан-герой Отечественной войны 1812 г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Прямоугольник 10"/>
          <p:cNvSpPr/>
          <p:nvPr/>
        </p:nvSpPr>
        <p:spPr>
          <a:xfrm>
            <a:off x="5214960" y="3643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падение партиз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 французский обо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Прямоугольник 7"/>
          <p:cNvSpPr/>
          <p:nvPr/>
        </p:nvSpPr>
        <p:spPr>
          <a:xfrm>
            <a:off x="0" y="6357960"/>
            <a:ext cx="87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чему весь народ поднялся на борьбу с захватчикам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28584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Отечественная война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1812 года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6" name="Прямоугольник 2"/>
          <p:cNvSpPr/>
          <p:nvPr/>
        </p:nvSpPr>
        <p:spPr>
          <a:xfrm>
            <a:off x="357120" y="6215040"/>
            <a:ext cx="87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 можно назвать войну, в которой люди защищают свою Родину, свое Отечество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3:53:00Z</dcterms:modified>
  <cp:revision>16</cp:revision>
  <dc:subject/>
  <dc:title>Слайд 1</dc:title>
</cp:coreProperties>
</file>